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1937-02AA-4B1B-A6B9-8E5FE9279A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3E61-8AB7-4FD4-9A4F-8E7FF6A8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9DEB5F-215E-4938-9E8F-9548E6F9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D4E9A1-2A70-4D6E-900C-C11C099C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C33531-98C2-44E7-A9F2-20CBEFD0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6DFFF7-04E1-4225-B85B-38A8DFF8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6C72E5-3AAD-4B7E-907F-4FAC743B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DCEE5C-7914-4865-B414-0302B62D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E2EDBB-C06C-498F-B0DC-EAD3B01B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3805AA-7281-4224-9BED-A6CCC4F9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B4BF8D-65CF-40D8-9217-E3C6FF0D39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0AD07-20A8-47A2-A00F-7A022EE68A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761FE-0CD5-46D0-82E2-7DE9F9C7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D29CF-C6EE-4078-B018-ED06E153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8DB9B-E6AA-4DFF-8506-9A81E423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98B3A-6517-4AA3-8290-70719133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BDC27-C07E-4A1F-9E13-6B2ABA69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0FC5A-034F-4EEE-A722-C1E73F42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7A696-7507-4A0B-B35D-A4AA13E8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8AC1C-3126-4A96-8E05-95A8FD03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19F8A-DD08-47E7-8284-9AA67277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A51DA-C528-4284-AD6D-464B06B2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1913D-4193-4B86-903A-659290EB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BE7B-AA21-413A-BFBC-2DC5AFA0DB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38925-F937-4859-AEBD-3408C053AE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4F03CD-E9A9-4A14-86EA-C486A1BB38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0BDB81-FDF3-40EE-B342-550FF290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EA12F2-360B-40D4-8079-DD8E6551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4B54A5-12EB-4BB9-8B11-351660B5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F005FA-D5A3-41A8-9DA4-0CCC20E7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246012-6503-44F0-B864-5A67113C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2EAA1E-2BDA-41DC-AB75-8A53322D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C5BE1E-6991-4CFC-8B06-F8C55616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8001FA-E857-480B-885F-E5744A30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E8192-3BF5-44FD-8689-57AA3FC8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A3F1C0-F70D-4A16-B263-2C94008B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8AB4D6-00EE-4359-9993-CA0829BE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6F7698-3958-4AC7-8DE5-1633715E43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AA384-B2AD-4FAC-AEB0-31429FAD24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4F0B4-5A86-4B05-ADF0-0D3D274A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E2A3A-5452-4838-93F4-6F492A10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A7A0C2-C09E-477E-92E4-F7268657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AFEC6-A0A9-43D0-820B-BD74EC70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C3D09-C5F2-4141-A1B0-E348BAE0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C5AA2-A342-4CD3-9ED8-BD6AADBC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90CB6-C5EF-4BC0-BACE-CF663742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45BA0-1664-4844-90F6-30F71C75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6E868-3E1C-425A-9DAA-90FB8A6B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F994F-BE38-41C8-A1E3-B07D8CB3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06DCB-81F6-4FDC-A800-3638B40F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BB9A43-9290-4DCF-B005-F8F0BA1C2C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39D79-CB29-4BDF-8A6B-D86C172175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F6B70-9B2C-4005-8679-1A60E3D3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780BE-B3EA-4ED0-9E0C-52687404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DDCE9-8DC5-4E6F-A5A3-CB3EFBD0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4DA4C-DEA0-46C8-97D9-1CBDC91A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8F305-0062-4DB2-B7E6-2B15472A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17435-113B-49F0-9607-506ABA43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84CD1-9117-4E8D-BA3C-B9F94018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7D34D-0D5C-4857-A011-4F79C299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8932B-4BB9-453E-B213-6D44133D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6257C-A705-4CAF-B452-A74AF623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B6F02-8819-4C6F-81EA-5825975A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8E03E-5522-4239-9DC1-26C8EA7654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91651-428C-41E9-B08B-620070D5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429B0-E602-45F0-9D44-DC0E70D3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CC657-68B8-4FB1-BAD7-EAE37888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AF5B9-609C-4FA6-ACFC-C45E8C5E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EC16B-B6C1-4B59-875C-72CBA3F0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2BA6E-8D1C-4111-9590-887ADA13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F8516-8D49-4984-B4BE-BDD9840D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E9FD9-D6FB-43A7-8469-AD993FB0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3E8AC-19D6-427E-B8B6-729C2087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56082-AF1C-4E26-AC45-7AEEBD9B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1B262-6EB8-4578-AA82-6FE4E88F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7C489-DC1E-48D1-963B-C11B003B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2F511-4899-4CBE-AAC2-8A0D4823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08FB9-1D3E-4F0F-B564-2CE52F51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6D677-3969-42E5-9DDE-448D0F6E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9574F-6323-485D-86F9-EDB1A68D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A8DBA-29B4-499C-9308-5FD0DAA3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CAF9B-8F1F-4C72-8E0A-F42212A2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D9FF0-8DBB-4D82-90AA-A068D1DA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5919D-2A67-4ECC-BCE5-BCA65707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5A4F5-2527-4AC0-92BE-7A60D8F6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223E8-8AAC-47ED-A5EE-0A83E2A9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BE0A5-2C67-4CB7-8A77-5262946C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C627C-17A8-41CB-8423-F6D2E76D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B0C0D-FE97-4DB6-ADFA-2123BE03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F92D9-87F2-4A9B-9957-7829C1DE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9F6FA-AA77-445E-BF64-AAB149F1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45157-C929-4B29-A1C5-F466A82C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A982C-8010-49E4-857F-7177F394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F4098-A879-4535-8B21-D8C2CFC1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DA14F-DE16-4442-B94F-2DE78CB3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702E0-CAEA-4FDB-A3F7-C8C54F63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85BAB-E4B7-41AF-86D8-60557AAC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8BD70-FDB6-49D5-AEE2-26A19351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B0624-F6D8-4B82-9F9F-6424D017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B409F-F5B6-4DC3-8E95-7F56D344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AB3C0-6220-47F2-BF89-1773BE43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82F29-FD2A-45AD-912F-6BE26352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D2675-D2A7-4BDC-9355-8AE4E61B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7316D-324F-4429-8F8A-143E81A3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4451F-7436-41DD-8B6D-F2E58CF3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1230C-5715-4E1D-AE6C-4C8C26B0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68BA2-3159-4002-A7E1-DB9ED9CE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C7381-575A-40C6-B69C-EC3F0DC6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D88F7-898A-46B5-B959-2A0C5F9D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30449-6FB8-4EB3-9D67-CEC0D232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607D6-D31B-4D95-A54E-C5DA7CB4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FA8FE-9013-40FE-82D4-6C96936E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DC40B-EF86-45BA-8664-494209C5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EBDF9-18F9-47CD-9BD5-507693C7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F459C-79F1-4AA5-8898-62BFBFF4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8E63C-CDF7-4B25-B022-4F5471BB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40BB4-CA24-4192-9290-2627A93D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4461E-FCD8-4406-9624-533E48FD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5F581-61E3-415E-AE4D-ADD938A1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3428D-2F6C-46A9-9153-345CD8F0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D3263-A610-4E10-9007-A2F1C151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00782-6D58-4181-B8E5-7DB12495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EEA47-8A49-4716-8809-2AA59FB8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C8D94-9DA8-4FCA-A560-F932EE08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36CFC-B5DA-4AB1-A975-2EB60CCA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BFC2A-C7B2-4076-83CF-EE36662C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90DE8-FB09-42F6-89EA-7865A813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A740B3-22A7-44BB-81E4-4EE065B2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B22C6-30E9-4532-BF04-6648977E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1B619-B732-4F9D-99E5-FD75275F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8273E-E8C7-4DAE-8879-AE7ED75B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19394-7FF0-47BA-83BC-173A79A0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C22A58-437D-4BC8-8F35-708B101B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10CF8-A802-4E89-8D9B-1E1EF55C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507D4-A3BE-44D7-BDE3-550D34C4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5D665-D81F-44FE-9434-53291B52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94081-37EB-453E-983F-DC28B4EE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2908A-C1A7-44D7-B41C-541E61A3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3AD017-0645-4C20-BD96-04F66EFA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EE04C0-6984-49FE-9382-9CF7F119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C2721-74B9-4BF8-B055-92EF8B7A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B450D-F790-4E89-B4EA-CB325346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32374-2DB6-4028-8FB2-AF9DE7F8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ED53B-574B-49F4-AE47-62D5472B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A8B606-CDBC-4132-941B-AC90AE26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CA200-16F6-4FD1-9023-D6C0DB1A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D656AF-4026-434D-8692-C07B20F6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0DDAF-752F-439F-9B6E-985BDC98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6219E-E092-4614-BB85-02FC7BBB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87D75-3CEF-425A-9734-95D11229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A6467-B98C-4C82-BC2F-BDAE5890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B943FE-CA3F-4A48-A593-28C3089F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89B9E7-EA55-4451-8AA8-D3D02E6E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E64EC-7543-4348-B76C-3450CFE5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CCF496-C2FE-4999-A221-6353514B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24701-0E50-47DD-B508-B7081C6B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C7128-0143-42A9-8EE7-94F80747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FBF97-E2E4-4580-B329-B85E5532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52AA7-6295-4C0D-B0A2-C0C7877C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AD1895-E72D-4474-8FA0-31D7A602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DC0503-CEA1-4C08-9A3E-DF4B8346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1AE0E6-F8BD-455A-80A4-968059A6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389168-770C-4F16-AFC5-C7EF47BB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04DE7D-B425-4A1A-81C3-A82F0CD4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CBB613-C638-4CAD-BA70-35E1C774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9B467-2226-4AAD-AC70-2AF8DF31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EBE42E-E114-4B0E-9B1A-0ED5B605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8E21F5-D887-446C-B2FE-60779A4437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61037-E09A-40E9-801A-B26E3503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5F47DA-2059-4B8A-ACF8-99000134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57B14-92A2-4D43-947B-0F6E8FDD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47F59E-CBC0-4D24-A8F8-CAC827F8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CCE216-1DCE-4801-BE90-87DD8F2A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761F8D-47C3-428A-A764-201A6F94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E3B20D-6B57-4B28-AF38-67EC6962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B2E6AD-52B1-46CB-8421-84D418A3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D38AE8-D29C-4C55-B36D-76F5FF0E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C3052B-30B0-43E8-9D12-B1DA2404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B7C0AA-0495-4975-B4E5-C1225E35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0C75AF-9CBC-44C1-95A2-8AC5E26A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24F2E0-1216-42AA-A4A6-F0547AAB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D70175-9DBC-460C-ABA3-0516CB81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AAC03E-08E8-482A-9B09-3D220696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11D3CA-8869-42B3-895B-3E863E04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AF3DBC-969A-4AE8-AAB4-3F46FF71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D85BD7-C200-4BDC-9240-8FDBC2E6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B05571-D3AD-49C3-A795-0AF53E6F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34777A-3F88-4555-BDC3-2589E80C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FBDA58-231E-477C-9EA1-D57EA7D2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F98D2E-E58A-4D25-8E14-D3D28DB1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0ED89F-821D-494C-9B05-7AF6A97C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746FB-A2AB-4E24-996A-D5D434EB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94D22D-BEB1-4CB2-893E-FBDB7645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E1D4D8-A0BA-4CBA-8966-12E43764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440015-D323-4707-815C-7E65D28A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D7B257-4BC6-42B7-8D9B-FA61E10C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321B73-872E-4E49-95E6-35CBED98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29A493-2B0E-4B88-BDF4-CA2B67CE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F0ED74-B9BC-4B49-B412-2FFE70EF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09094E-430F-48FE-B5DF-D8278EB6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B8135-D4E5-4CF9-BAC3-C7AB85D6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1FD161-518C-4FEE-BDE4-8A0D4256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496C2B-5454-446B-9551-066C5156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6AD9A8-F98B-4139-81BE-1B7D7922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A75BED-8CFA-4C95-ABB1-58ECBE64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025D1D-779C-451F-A0D6-49A28991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B51CAC-D0B0-4AD4-83E0-BB7C2957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ED7836-7EFD-4048-91EE-C8D1DE27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4AF831-A44B-4644-9B90-AE68B4B1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75CD9B-A092-412D-9E29-9E26035E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9249FA-4EFC-4EED-A19C-B44BF45B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0C41C-1B7A-472A-9331-B2A1A3C4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961706-C608-4BFE-9A63-E8BD14A4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4B2095-A188-4830-A5BE-0F7D6363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C51A8C-DDC3-48CC-B772-174E1BBD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61F6A8-DB6A-4F50-B052-8C1647A9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722B7-C1B1-4546-BA1B-89FCA64F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83014F-47BA-4E12-999D-53072101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D38D90-3888-43B4-9DBF-90E350E9D7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96F77-DCF0-4AA9-82D4-919208C583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C263-F1C5-4CA1-B00C-BFB1FF55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5E786-9327-499A-BCFA-160A367D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57A6-B4C3-454E-8C0D-40373294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BA21-22D3-4A61-96BD-89DFEB30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D2C8-8F50-4DCF-BBDB-C881EDC3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FCA9-5C66-46D5-B5ED-37510114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244F1-A99A-4166-9EE4-AAD7C0C0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32461-C72D-4F9A-8F16-E0A366CD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1B36F-1916-42D6-898F-70686E96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FA14-623B-4033-8EE6-2AAB8A3F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836BB-2258-48CF-BBC4-E57A48C6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DFE91-C86A-4F56-93CC-050C9764AB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1D7477-F009-4C90-A1B6-D3CED82E8F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DF1E3-739F-4B2C-832F-2DCE4A40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D0BE9-63D7-4726-A5A9-E16FE0FD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45873F-E821-462D-B149-F4D60E82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0FA6C-4FD9-4922-8768-2EF41294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1F7450-AE4D-41D9-9AB5-ED0EBA93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9D205-F482-4716-8802-9D50F1A5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5CCC9-A652-46B7-B24A-6DBA6F99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8AC76-A3D7-47EB-AB28-D729C343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99C8CF-9CCE-40E1-BF45-83BB7218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F18D7-0D18-47B3-B633-3C54FC7A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6361D3-18C3-4358-AF1B-74F77B58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3BA1-D36E-4064-B915-9345EB40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B42FF-D8C3-4137-BF96-997AD5F99A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A816CF-DB44-4740-B998-CE7A1D23A7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971160-98AF-4CB1-8540-701D8DE3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9E0129-1251-4F67-A547-B9C1FDE3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565E03-1300-4A48-BE84-2D5ACF0C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155EA4-DD62-4FA1-A0B1-9D19D947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A0CB51-B3B0-462D-8C14-D1BAE692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88A482-91DA-4B49-861B-930500F5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9CF70D-28AD-4810-B585-A3D568E9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693368-DA07-4597-8C78-B4CF567B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B00AB-90CD-44E1-83DB-76D91FB9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DCCD42-F1B7-42F8-BC46-F9000254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5E3D0B-433A-4EFD-8AED-838AD600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613DA3-266C-4148-BE65-D9DB52355A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E2A61-0BDF-4A80-969C-D7F2365D56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8215C-292D-4F2D-9568-DF0533DF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E4F92-FC6F-41A4-848A-8374E5FF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91B09-E5B8-4196-AC01-37F5D14F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DCE39-1BC1-4BB0-BD6F-A56BA26F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4DC5E-39BD-4019-A841-C28C76ED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91F5B-3CA9-4343-8726-2E8E2B5C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DEDD6-84DB-49ED-A182-0C84C1DA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6A2F0-1835-493B-8C9D-BA558E8E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79D38-FE56-4648-9E7B-8A3FBC31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4E270-0AE2-446E-B8B4-6FFC3FB2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E1CD5-1C51-4586-9B53-1C89C233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14990-2F9E-421E-BA75-232D60AB61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BE287-233A-443B-9B12-C835F245CE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23066-AD20-4EA1-BD7C-C8BEA73E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0F1B1-D97C-44A6-87AB-EDAB9AD2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09A79D-823B-4BA5-9B2D-5447EC2D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7DEFC-6CD4-40E8-8BA0-53E0F31C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767F7-EB45-41A2-818D-14CDB4E5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DCEDF-55A5-40FB-B572-650ACC6F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63EE8-1B09-4641-80D6-07EB1E7C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85442A-F46A-49A2-AD46-7D9CA2B1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CBD708-220E-4425-B880-543954BA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B36F2-87DF-4A6F-9AF2-D3D5A9ED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FD952-A5F8-4830-A9CE-6D330E8F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F6B1DA-C6F1-43A2-BB5E-CFE292FDB3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EE5AA4-B7FD-48B7-B107-E5B8FD09B0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58E625-914E-4A4F-8512-B9A527CD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A3FB76-6D46-431D-9681-AB312F90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8163-9C69-41F5-99FE-ED14F882254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E03B-27A6-4EFF-893C-638E29AA261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11E6-D2B2-4DB5-A097-05FD2EF3004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FE8D-6EE3-4B63-81E3-EC2F3FC9F47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AF04-F548-478D-B5A7-179F4AA22ED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664A-4DCA-4559-9814-4A57A359D1C3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0545-04CD-4A44-8B61-852A6A5A2266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9A82-5832-4BA5-A2AE-FC9411316B14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7CEE-487C-41FD-B378-E52CF3D59869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6E0F-9901-4209-B021-8798D47E4B91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58A9-0D02-4DF4-9102-8EDAF8694B79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E6B0-D6E1-45E0-8355-3A0BC5BE8FE5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F1D1-3323-4FA8-AF5E-BF496F658524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501C-C497-4A95-B396-D589CEFDBB95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0A10-DC4E-49FD-B82C-F31B5D320764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6664-FEB5-4736-A593-C87660FAA3CF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9014-8E5F-4EA1-ABF1-ACC6A69C5A05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8456-7016-41FF-A983-EC3EE21D25A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DBA5-CDE5-470C-833D-49201F034DB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93C7-BF05-4727-9315-7C5DA94B5AB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CA38-7B51-4D0E-BCF2-84DEA0E44A0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20F9-ECEE-4499-98B6-0BD66581E15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A4F6-DCAD-42F7-8EA1-95BCF8101B0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3C33-B959-4F1F-8B77-22E478653C0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jpe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735280" y="277344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655720"/>
            <a:ext cx="8443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加 减 混 合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07800" y="1816200"/>
            <a:ext cx="91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 txBox="1"/>
          <p:nvPr/>
        </p:nvSpPr>
        <p:spPr>
          <a:xfrm>
            <a:off x="457200" y="102564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我会填“＞”“＜”或“＝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     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     9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     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     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48"/>
          <p:cNvSpPr/>
          <p:nvPr/>
        </p:nvSpPr>
        <p:spPr>
          <a:xfrm>
            <a:off x="27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5586"/>
          <p:cNvSpPr/>
          <p:nvPr/>
        </p:nvSpPr>
        <p:spPr>
          <a:xfrm>
            <a:off x="2284560" y="2308320"/>
            <a:ext cx="453960" cy="29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5586"/>
          <p:cNvSpPr/>
          <p:nvPr/>
        </p:nvSpPr>
        <p:spPr>
          <a:xfrm>
            <a:off x="2284560" y="3165480"/>
            <a:ext cx="453960" cy="3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val 5586"/>
          <p:cNvSpPr/>
          <p:nvPr/>
        </p:nvSpPr>
        <p:spPr>
          <a:xfrm>
            <a:off x="2284560" y="4048200"/>
            <a:ext cx="453960" cy="34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5586"/>
          <p:cNvSpPr/>
          <p:nvPr/>
        </p:nvSpPr>
        <p:spPr>
          <a:xfrm>
            <a:off x="2284560" y="4888080"/>
            <a:ext cx="4539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6"/>
          <p:cNvSpPr/>
          <p:nvPr/>
        </p:nvSpPr>
        <p:spPr>
          <a:xfrm>
            <a:off x="2351160" y="220356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文本框 7"/>
          <p:cNvSpPr/>
          <p:nvPr/>
        </p:nvSpPr>
        <p:spPr>
          <a:xfrm>
            <a:off x="2293920" y="309564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8"/>
          <p:cNvSpPr/>
          <p:nvPr/>
        </p:nvSpPr>
        <p:spPr>
          <a:xfrm>
            <a:off x="2282760" y="3954600"/>
            <a:ext cx="2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文本框 9"/>
          <p:cNvSpPr/>
          <p:nvPr/>
        </p:nvSpPr>
        <p:spPr>
          <a:xfrm>
            <a:off x="2276640" y="479592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457200" y="119556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数学门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8"/>
          <p:cNvSpPr/>
          <p:nvPr/>
        </p:nvSpPr>
        <p:spPr>
          <a:xfrm>
            <a:off x="27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6" name="组合 37"/>
          <p:cNvGrpSpPr/>
          <p:nvPr/>
        </p:nvGrpSpPr>
        <p:grpSpPr>
          <a:xfrm>
            <a:off x="1617840" y="2373480"/>
            <a:ext cx="990360" cy="1376280"/>
            <a:chOff x="1617840" y="2373480"/>
            <a:chExt cx="990360" cy="1376280"/>
          </a:xfrm>
        </p:grpSpPr>
        <p:sp>
          <p:nvSpPr>
            <p:cNvPr id="1217" name="未知"/>
            <p:cNvSpPr/>
            <p:nvPr/>
          </p:nvSpPr>
          <p:spPr>
            <a:xfrm>
              <a:off x="1617840" y="2373480"/>
              <a:ext cx="990360" cy="1376280"/>
            </a:xfrm>
            <a:custGeom>
              <a:avLst/>
              <a:gdLst/>
              <a:ahLst/>
              <a:rect l="l" t="t" r="r" b="b"/>
              <a:pathLst>
                <a:path w="2999" h="3468">
                  <a:moveTo>
                    <a:pt x="2444" y="3444"/>
                  </a:moveTo>
                  <a:lnTo>
                    <a:pt x="2448" y="3431"/>
                  </a:lnTo>
                  <a:lnTo>
                    <a:pt x="2454" y="3418"/>
                  </a:lnTo>
                  <a:lnTo>
                    <a:pt x="2460" y="3404"/>
                  </a:lnTo>
                  <a:lnTo>
                    <a:pt x="2469" y="3392"/>
                  </a:lnTo>
                  <a:lnTo>
                    <a:pt x="2479" y="3378"/>
                  </a:lnTo>
                  <a:lnTo>
                    <a:pt x="2492" y="3365"/>
                  </a:lnTo>
                  <a:lnTo>
                    <a:pt x="2505" y="3353"/>
                  </a:lnTo>
                  <a:lnTo>
                    <a:pt x="2521" y="3340"/>
                  </a:lnTo>
                  <a:lnTo>
                    <a:pt x="2504" y="3317"/>
                  </a:lnTo>
                  <a:lnTo>
                    <a:pt x="2487" y="3294"/>
                  </a:lnTo>
                  <a:lnTo>
                    <a:pt x="2472" y="3271"/>
                  </a:lnTo>
                  <a:lnTo>
                    <a:pt x="2457" y="3248"/>
                  </a:lnTo>
                  <a:lnTo>
                    <a:pt x="2442" y="3224"/>
                  </a:lnTo>
                  <a:lnTo>
                    <a:pt x="2429" y="3200"/>
                  </a:lnTo>
                  <a:lnTo>
                    <a:pt x="2416" y="3176"/>
                  </a:lnTo>
                  <a:lnTo>
                    <a:pt x="2403" y="3152"/>
                  </a:lnTo>
                  <a:lnTo>
                    <a:pt x="2391" y="3127"/>
                  </a:lnTo>
                  <a:lnTo>
                    <a:pt x="2379" y="3102"/>
                  </a:lnTo>
                  <a:lnTo>
                    <a:pt x="2369" y="3077"/>
                  </a:lnTo>
                  <a:lnTo>
                    <a:pt x="2359" y="3052"/>
                  </a:lnTo>
                  <a:lnTo>
                    <a:pt x="2349" y="3026"/>
                  </a:lnTo>
                  <a:lnTo>
                    <a:pt x="2340" y="3001"/>
                  </a:lnTo>
                  <a:lnTo>
                    <a:pt x="2331" y="2975"/>
                  </a:lnTo>
                  <a:lnTo>
                    <a:pt x="2324" y="2949"/>
                  </a:lnTo>
                  <a:lnTo>
                    <a:pt x="2317" y="2924"/>
                  </a:lnTo>
                  <a:lnTo>
                    <a:pt x="2311" y="2901"/>
                  </a:lnTo>
                  <a:lnTo>
                    <a:pt x="2307" y="2878"/>
                  </a:lnTo>
                  <a:lnTo>
                    <a:pt x="2303" y="2858"/>
                  </a:lnTo>
                  <a:lnTo>
                    <a:pt x="2301" y="2837"/>
                  </a:lnTo>
                  <a:lnTo>
                    <a:pt x="2300" y="2818"/>
                  </a:lnTo>
                  <a:lnTo>
                    <a:pt x="2300" y="2801"/>
                  </a:lnTo>
                  <a:lnTo>
                    <a:pt x="2301" y="2784"/>
                  </a:lnTo>
                  <a:lnTo>
                    <a:pt x="2303" y="2768"/>
                  </a:lnTo>
                  <a:lnTo>
                    <a:pt x="2306" y="2753"/>
                  </a:lnTo>
                  <a:lnTo>
                    <a:pt x="2308" y="2746"/>
                  </a:lnTo>
                  <a:lnTo>
                    <a:pt x="2311" y="2740"/>
                  </a:lnTo>
                  <a:lnTo>
                    <a:pt x="2316" y="2728"/>
                  </a:lnTo>
                  <a:lnTo>
                    <a:pt x="2323" y="2716"/>
                  </a:lnTo>
                  <a:lnTo>
                    <a:pt x="2331" y="2706"/>
                  </a:lnTo>
                  <a:lnTo>
                    <a:pt x="2335" y="2701"/>
                  </a:lnTo>
                  <a:lnTo>
                    <a:pt x="2340" y="2697"/>
                  </a:lnTo>
                  <a:lnTo>
                    <a:pt x="2350" y="2689"/>
                  </a:lnTo>
                  <a:lnTo>
                    <a:pt x="2360" y="2682"/>
                  </a:lnTo>
                  <a:lnTo>
                    <a:pt x="2373" y="2676"/>
                  </a:lnTo>
                  <a:lnTo>
                    <a:pt x="2386" y="2671"/>
                  </a:lnTo>
                  <a:lnTo>
                    <a:pt x="2392" y="2669"/>
                  </a:lnTo>
                  <a:lnTo>
                    <a:pt x="2400" y="2667"/>
                  </a:lnTo>
                  <a:lnTo>
                    <a:pt x="2416" y="2664"/>
                  </a:lnTo>
                  <a:lnTo>
                    <a:pt x="2432" y="2663"/>
                  </a:lnTo>
                  <a:lnTo>
                    <a:pt x="2450" y="2662"/>
                  </a:lnTo>
                  <a:lnTo>
                    <a:pt x="2459" y="2662"/>
                  </a:lnTo>
                  <a:lnTo>
                    <a:pt x="2469" y="2663"/>
                  </a:lnTo>
                  <a:lnTo>
                    <a:pt x="2488" y="2665"/>
                  </a:lnTo>
                  <a:lnTo>
                    <a:pt x="2498" y="2666"/>
                  </a:lnTo>
                  <a:lnTo>
                    <a:pt x="2509" y="2667"/>
                  </a:lnTo>
                  <a:lnTo>
                    <a:pt x="2531" y="2671"/>
                  </a:lnTo>
                  <a:lnTo>
                    <a:pt x="2555" y="2676"/>
                  </a:lnTo>
                  <a:lnTo>
                    <a:pt x="2579" y="2682"/>
                  </a:lnTo>
                  <a:lnTo>
                    <a:pt x="2591" y="2686"/>
                  </a:lnTo>
                  <a:lnTo>
                    <a:pt x="2604" y="2690"/>
                  </a:lnTo>
                  <a:lnTo>
                    <a:pt x="2631" y="2698"/>
                  </a:lnTo>
                  <a:lnTo>
                    <a:pt x="2659" y="2707"/>
                  </a:lnTo>
                  <a:lnTo>
                    <a:pt x="2662" y="2726"/>
                  </a:lnTo>
                  <a:lnTo>
                    <a:pt x="2666" y="2744"/>
                  </a:lnTo>
                  <a:lnTo>
                    <a:pt x="2670" y="2762"/>
                  </a:lnTo>
                  <a:lnTo>
                    <a:pt x="2675" y="2778"/>
                  </a:lnTo>
                  <a:lnTo>
                    <a:pt x="2680" y="2794"/>
                  </a:lnTo>
                  <a:lnTo>
                    <a:pt x="2686" y="2809"/>
                  </a:lnTo>
                  <a:lnTo>
                    <a:pt x="2692" y="2823"/>
                  </a:lnTo>
                  <a:lnTo>
                    <a:pt x="2699" y="2837"/>
                  </a:lnTo>
                  <a:lnTo>
                    <a:pt x="2706" y="2850"/>
                  </a:lnTo>
                  <a:lnTo>
                    <a:pt x="2714" y="2862"/>
                  </a:lnTo>
                  <a:lnTo>
                    <a:pt x="2722" y="2873"/>
                  </a:lnTo>
                  <a:lnTo>
                    <a:pt x="2731" y="2883"/>
                  </a:lnTo>
                  <a:lnTo>
                    <a:pt x="2739" y="2893"/>
                  </a:lnTo>
                  <a:lnTo>
                    <a:pt x="2749" y="2902"/>
                  </a:lnTo>
                  <a:lnTo>
                    <a:pt x="2759" y="2909"/>
                  </a:lnTo>
                  <a:lnTo>
                    <a:pt x="2770" y="2917"/>
                  </a:lnTo>
                  <a:lnTo>
                    <a:pt x="2780" y="2923"/>
                  </a:lnTo>
                  <a:lnTo>
                    <a:pt x="2791" y="2929"/>
                  </a:lnTo>
                  <a:lnTo>
                    <a:pt x="2803" y="2934"/>
                  </a:lnTo>
                  <a:lnTo>
                    <a:pt x="2816" y="2938"/>
                  </a:lnTo>
                  <a:lnTo>
                    <a:pt x="2828" y="2941"/>
                  </a:lnTo>
                  <a:lnTo>
                    <a:pt x="2842" y="2943"/>
                  </a:lnTo>
                  <a:lnTo>
                    <a:pt x="2855" y="2945"/>
                  </a:lnTo>
                  <a:lnTo>
                    <a:pt x="2870" y="2946"/>
                  </a:lnTo>
                  <a:lnTo>
                    <a:pt x="2884" y="2946"/>
                  </a:lnTo>
                  <a:lnTo>
                    <a:pt x="2899" y="2945"/>
                  </a:lnTo>
                  <a:lnTo>
                    <a:pt x="2914" y="2944"/>
                  </a:lnTo>
                  <a:lnTo>
                    <a:pt x="2931" y="2941"/>
                  </a:lnTo>
                  <a:lnTo>
                    <a:pt x="2947" y="2938"/>
                  </a:lnTo>
                  <a:lnTo>
                    <a:pt x="2964" y="2934"/>
                  </a:lnTo>
                  <a:lnTo>
                    <a:pt x="2981" y="2930"/>
                  </a:lnTo>
                  <a:lnTo>
                    <a:pt x="2999" y="2925"/>
                  </a:lnTo>
                  <a:lnTo>
                    <a:pt x="2999" y="0"/>
                  </a:lnTo>
                  <a:lnTo>
                    <a:pt x="0" y="0"/>
                  </a:lnTo>
                  <a:lnTo>
                    <a:pt x="0" y="3468"/>
                  </a:lnTo>
                  <a:lnTo>
                    <a:pt x="2416" y="3468"/>
                  </a:lnTo>
                </a:path>
              </a:pathLst>
            </a:custGeom>
            <a:noFill/>
            <a:ln w="28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文本框 12"/>
            <p:cNvSpPr/>
            <p:nvPr/>
          </p:nvSpPr>
          <p:spPr>
            <a:xfrm>
              <a:off x="1722960" y="2373480"/>
              <a:ext cx="648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+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6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-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7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直接连接符 14"/>
            <p:cNvSpPr/>
            <p:nvPr/>
          </p:nvSpPr>
          <p:spPr>
            <a:xfrm>
              <a:off x="1671120" y="2960280"/>
              <a:ext cx="75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直接连接符 36"/>
            <p:cNvSpPr/>
            <p:nvPr/>
          </p:nvSpPr>
          <p:spPr>
            <a:xfrm>
              <a:off x="1671120" y="3429000"/>
              <a:ext cx="65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直接连接符 52"/>
          <p:cNvSpPr/>
          <p:nvPr/>
        </p:nvSpPr>
        <p:spPr>
          <a:xfrm>
            <a:off x="1260360" y="5611680"/>
            <a:ext cx="1789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2" name="组合 50"/>
          <p:cNvGrpSpPr/>
          <p:nvPr/>
        </p:nvGrpSpPr>
        <p:grpSpPr>
          <a:xfrm>
            <a:off x="4354560" y="2355840"/>
            <a:ext cx="990720" cy="1397160"/>
            <a:chOff x="4354560" y="2355840"/>
            <a:chExt cx="990720" cy="1397160"/>
          </a:xfrm>
        </p:grpSpPr>
        <p:sp>
          <p:nvSpPr>
            <p:cNvPr id="1223" name="未知"/>
            <p:cNvSpPr/>
            <p:nvPr/>
          </p:nvSpPr>
          <p:spPr>
            <a:xfrm>
              <a:off x="4354560" y="2365920"/>
              <a:ext cx="990720" cy="1387080"/>
            </a:xfrm>
            <a:custGeom>
              <a:avLst/>
              <a:gdLst/>
              <a:ahLst/>
              <a:rect l="l" t="t" r="r" b="b"/>
              <a:pathLst>
                <a:path w="2999" h="3468">
                  <a:moveTo>
                    <a:pt x="2444" y="3444"/>
                  </a:moveTo>
                  <a:lnTo>
                    <a:pt x="2448" y="3431"/>
                  </a:lnTo>
                  <a:lnTo>
                    <a:pt x="2454" y="3418"/>
                  </a:lnTo>
                  <a:lnTo>
                    <a:pt x="2460" y="3404"/>
                  </a:lnTo>
                  <a:lnTo>
                    <a:pt x="2469" y="3392"/>
                  </a:lnTo>
                  <a:lnTo>
                    <a:pt x="2479" y="3378"/>
                  </a:lnTo>
                  <a:lnTo>
                    <a:pt x="2492" y="3365"/>
                  </a:lnTo>
                  <a:lnTo>
                    <a:pt x="2505" y="3353"/>
                  </a:lnTo>
                  <a:lnTo>
                    <a:pt x="2521" y="3340"/>
                  </a:lnTo>
                  <a:lnTo>
                    <a:pt x="2504" y="3317"/>
                  </a:lnTo>
                  <a:lnTo>
                    <a:pt x="2487" y="3294"/>
                  </a:lnTo>
                  <a:lnTo>
                    <a:pt x="2472" y="3271"/>
                  </a:lnTo>
                  <a:lnTo>
                    <a:pt x="2457" y="3248"/>
                  </a:lnTo>
                  <a:lnTo>
                    <a:pt x="2442" y="3224"/>
                  </a:lnTo>
                  <a:lnTo>
                    <a:pt x="2429" y="3200"/>
                  </a:lnTo>
                  <a:lnTo>
                    <a:pt x="2416" y="3176"/>
                  </a:lnTo>
                  <a:lnTo>
                    <a:pt x="2403" y="3152"/>
                  </a:lnTo>
                  <a:lnTo>
                    <a:pt x="2391" y="3127"/>
                  </a:lnTo>
                  <a:lnTo>
                    <a:pt x="2379" y="3102"/>
                  </a:lnTo>
                  <a:lnTo>
                    <a:pt x="2369" y="3077"/>
                  </a:lnTo>
                  <a:lnTo>
                    <a:pt x="2359" y="3052"/>
                  </a:lnTo>
                  <a:lnTo>
                    <a:pt x="2349" y="3026"/>
                  </a:lnTo>
                  <a:lnTo>
                    <a:pt x="2340" y="3001"/>
                  </a:lnTo>
                  <a:lnTo>
                    <a:pt x="2331" y="2975"/>
                  </a:lnTo>
                  <a:lnTo>
                    <a:pt x="2324" y="2949"/>
                  </a:lnTo>
                  <a:lnTo>
                    <a:pt x="2317" y="2924"/>
                  </a:lnTo>
                  <a:lnTo>
                    <a:pt x="2311" y="2901"/>
                  </a:lnTo>
                  <a:lnTo>
                    <a:pt x="2307" y="2878"/>
                  </a:lnTo>
                  <a:lnTo>
                    <a:pt x="2303" y="2858"/>
                  </a:lnTo>
                  <a:lnTo>
                    <a:pt x="2301" y="2837"/>
                  </a:lnTo>
                  <a:lnTo>
                    <a:pt x="2300" y="2818"/>
                  </a:lnTo>
                  <a:lnTo>
                    <a:pt x="2300" y="2801"/>
                  </a:lnTo>
                  <a:lnTo>
                    <a:pt x="2301" y="2784"/>
                  </a:lnTo>
                  <a:lnTo>
                    <a:pt x="2303" y="2768"/>
                  </a:lnTo>
                  <a:lnTo>
                    <a:pt x="2306" y="2753"/>
                  </a:lnTo>
                  <a:lnTo>
                    <a:pt x="2308" y="2746"/>
                  </a:lnTo>
                  <a:lnTo>
                    <a:pt x="2311" y="2740"/>
                  </a:lnTo>
                  <a:lnTo>
                    <a:pt x="2316" y="2728"/>
                  </a:lnTo>
                  <a:lnTo>
                    <a:pt x="2323" y="2716"/>
                  </a:lnTo>
                  <a:lnTo>
                    <a:pt x="2331" y="2706"/>
                  </a:lnTo>
                  <a:lnTo>
                    <a:pt x="2335" y="2701"/>
                  </a:lnTo>
                  <a:lnTo>
                    <a:pt x="2340" y="2697"/>
                  </a:lnTo>
                  <a:lnTo>
                    <a:pt x="2350" y="2689"/>
                  </a:lnTo>
                  <a:lnTo>
                    <a:pt x="2360" y="2682"/>
                  </a:lnTo>
                  <a:lnTo>
                    <a:pt x="2373" y="2676"/>
                  </a:lnTo>
                  <a:lnTo>
                    <a:pt x="2386" y="2671"/>
                  </a:lnTo>
                  <a:lnTo>
                    <a:pt x="2392" y="2669"/>
                  </a:lnTo>
                  <a:lnTo>
                    <a:pt x="2400" y="2667"/>
                  </a:lnTo>
                  <a:lnTo>
                    <a:pt x="2416" y="2664"/>
                  </a:lnTo>
                  <a:lnTo>
                    <a:pt x="2432" y="2663"/>
                  </a:lnTo>
                  <a:lnTo>
                    <a:pt x="2450" y="2662"/>
                  </a:lnTo>
                  <a:lnTo>
                    <a:pt x="2459" y="2662"/>
                  </a:lnTo>
                  <a:lnTo>
                    <a:pt x="2469" y="2663"/>
                  </a:lnTo>
                  <a:lnTo>
                    <a:pt x="2488" y="2665"/>
                  </a:lnTo>
                  <a:lnTo>
                    <a:pt x="2498" y="2666"/>
                  </a:lnTo>
                  <a:lnTo>
                    <a:pt x="2509" y="2667"/>
                  </a:lnTo>
                  <a:lnTo>
                    <a:pt x="2531" y="2671"/>
                  </a:lnTo>
                  <a:lnTo>
                    <a:pt x="2555" y="2676"/>
                  </a:lnTo>
                  <a:lnTo>
                    <a:pt x="2579" y="2682"/>
                  </a:lnTo>
                  <a:lnTo>
                    <a:pt x="2591" y="2686"/>
                  </a:lnTo>
                  <a:lnTo>
                    <a:pt x="2604" y="2690"/>
                  </a:lnTo>
                  <a:lnTo>
                    <a:pt x="2631" y="2698"/>
                  </a:lnTo>
                  <a:lnTo>
                    <a:pt x="2659" y="2707"/>
                  </a:lnTo>
                  <a:lnTo>
                    <a:pt x="2662" y="2726"/>
                  </a:lnTo>
                  <a:lnTo>
                    <a:pt x="2666" y="2744"/>
                  </a:lnTo>
                  <a:lnTo>
                    <a:pt x="2670" y="2762"/>
                  </a:lnTo>
                  <a:lnTo>
                    <a:pt x="2675" y="2778"/>
                  </a:lnTo>
                  <a:lnTo>
                    <a:pt x="2680" y="2794"/>
                  </a:lnTo>
                  <a:lnTo>
                    <a:pt x="2686" y="2809"/>
                  </a:lnTo>
                  <a:lnTo>
                    <a:pt x="2692" y="2823"/>
                  </a:lnTo>
                  <a:lnTo>
                    <a:pt x="2699" y="2837"/>
                  </a:lnTo>
                  <a:lnTo>
                    <a:pt x="2706" y="2850"/>
                  </a:lnTo>
                  <a:lnTo>
                    <a:pt x="2714" y="2862"/>
                  </a:lnTo>
                  <a:lnTo>
                    <a:pt x="2722" y="2873"/>
                  </a:lnTo>
                  <a:lnTo>
                    <a:pt x="2731" y="2883"/>
                  </a:lnTo>
                  <a:lnTo>
                    <a:pt x="2739" y="2893"/>
                  </a:lnTo>
                  <a:lnTo>
                    <a:pt x="2749" y="2902"/>
                  </a:lnTo>
                  <a:lnTo>
                    <a:pt x="2759" y="2909"/>
                  </a:lnTo>
                  <a:lnTo>
                    <a:pt x="2770" y="2917"/>
                  </a:lnTo>
                  <a:lnTo>
                    <a:pt x="2780" y="2923"/>
                  </a:lnTo>
                  <a:lnTo>
                    <a:pt x="2791" y="2929"/>
                  </a:lnTo>
                  <a:lnTo>
                    <a:pt x="2803" y="2934"/>
                  </a:lnTo>
                  <a:lnTo>
                    <a:pt x="2816" y="2938"/>
                  </a:lnTo>
                  <a:lnTo>
                    <a:pt x="2828" y="2941"/>
                  </a:lnTo>
                  <a:lnTo>
                    <a:pt x="2842" y="2943"/>
                  </a:lnTo>
                  <a:lnTo>
                    <a:pt x="2855" y="2945"/>
                  </a:lnTo>
                  <a:lnTo>
                    <a:pt x="2870" y="2946"/>
                  </a:lnTo>
                  <a:lnTo>
                    <a:pt x="2884" y="2946"/>
                  </a:lnTo>
                  <a:lnTo>
                    <a:pt x="2899" y="2945"/>
                  </a:lnTo>
                  <a:lnTo>
                    <a:pt x="2914" y="2944"/>
                  </a:lnTo>
                  <a:lnTo>
                    <a:pt x="2931" y="2941"/>
                  </a:lnTo>
                  <a:lnTo>
                    <a:pt x="2947" y="2938"/>
                  </a:lnTo>
                  <a:lnTo>
                    <a:pt x="2964" y="2934"/>
                  </a:lnTo>
                  <a:lnTo>
                    <a:pt x="2981" y="2930"/>
                  </a:lnTo>
                  <a:lnTo>
                    <a:pt x="2999" y="2925"/>
                  </a:lnTo>
                  <a:lnTo>
                    <a:pt x="2999" y="0"/>
                  </a:lnTo>
                  <a:lnTo>
                    <a:pt x="0" y="0"/>
                  </a:lnTo>
                  <a:lnTo>
                    <a:pt x="0" y="3468"/>
                  </a:lnTo>
                  <a:lnTo>
                    <a:pt x="2416" y="3468"/>
                  </a:lnTo>
                </a:path>
              </a:pathLst>
            </a:custGeom>
            <a:noFill/>
            <a:ln w="28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文本框 45"/>
            <p:cNvSpPr/>
            <p:nvPr/>
          </p:nvSpPr>
          <p:spPr>
            <a:xfrm>
              <a:off x="4443840" y="2355840"/>
              <a:ext cx="81216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7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- 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+ 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8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直接连接符 47"/>
            <p:cNvSpPr/>
            <p:nvPr/>
          </p:nvSpPr>
          <p:spPr>
            <a:xfrm>
              <a:off x="4396320" y="2960280"/>
              <a:ext cx="778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直接连接符 49"/>
            <p:cNvSpPr/>
            <p:nvPr/>
          </p:nvSpPr>
          <p:spPr>
            <a:xfrm flipV="1">
              <a:off x="4354920" y="3429360"/>
              <a:ext cx="71208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直接连接符 54"/>
          <p:cNvSpPr/>
          <p:nvPr/>
        </p:nvSpPr>
        <p:spPr>
          <a:xfrm>
            <a:off x="4194000" y="5629320"/>
            <a:ext cx="1797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组合 7"/>
          <p:cNvGrpSpPr/>
          <p:nvPr/>
        </p:nvGrpSpPr>
        <p:grpSpPr>
          <a:xfrm>
            <a:off x="4299120" y="3946680"/>
            <a:ext cx="1271520" cy="1627560"/>
            <a:chOff x="4299120" y="3946680"/>
            <a:chExt cx="1271520" cy="1627560"/>
          </a:xfrm>
        </p:grpSpPr>
        <p:sp>
          <p:nvSpPr>
            <p:cNvPr id="1229" name="文本框 10"/>
            <p:cNvSpPr/>
            <p:nvPr/>
          </p:nvSpPr>
          <p:spPr>
            <a:xfrm>
              <a:off x="4396320" y="3946680"/>
              <a:ext cx="11743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-1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5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+1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7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直接连接符 12"/>
            <p:cNvSpPr/>
            <p:nvPr/>
          </p:nvSpPr>
          <p:spPr>
            <a:xfrm>
              <a:off x="4299120" y="4643640"/>
              <a:ext cx="82368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直接连接符 14"/>
            <p:cNvSpPr/>
            <p:nvPr/>
          </p:nvSpPr>
          <p:spPr>
            <a:xfrm>
              <a:off x="4396320" y="5233680"/>
              <a:ext cx="66636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组合 11"/>
          <p:cNvGrpSpPr/>
          <p:nvPr/>
        </p:nvGrpSpPr>
        <p:grpSpPr>
          <a:xfrm>
            <a:off x="1255680" y="3927600"/>
            <a:ext cx="1684440" cy="2211480"/>
            <a:chOff x="1255680" y="3927600"/>
            <a:chExt cx="1684440" cy="2211480"/>
          </a:xfrm>
        </p:grpSpPr>
        <p:sp>
          <p:nvSpPr>
            <p:cNvPr id="1233" name="文本框 10"/>
            <p:cNvSpPr/>
            <p:nvPr/>
          </p:nvSpPr>
          <p:spPr>
            <a:xfrm>
              <a:off x="1298880" y="3927600"/>
              <a:ext cx="1641240" cy="22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＋   </a:t>
              </a: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25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 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-    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宋体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4" name="组合 10"/>
            <p:cNvGrpSpPr/>
            <p:nvPr/>
          </p:nvGrpSpPr>
          <p:grpSpPr>
            <a:xfrm>
              <a:off x="1255680" y="4642560"/>
              <a:ext cx="1166760" cy="590040"/>
              <a:chOff x="1255680" y="4642560"/>
              <a:chExt cx="1166760" cy="590040"/>
            </a:xfrm>
          </p:grpSpPr>
          <p:sp>
            <p:nvSpPr>
              <p:cNvPr id="1235" name="直接连接符 12"/>
              <p:cNvSpPr/>
              <p:nvPr/>
            </p:nvSpPr>
            <p:spPr>
              <a:xfrm>
                <a:off x="1271880" y="5232600"/>
                <a:ext cx="11505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直接连接符 12"/>
              <p:cNvSpPr/>
              <p:nvPr/>
            </p:nvSpPr>
            <p:spPr>
              <a:xfrm>
                <a:off x="1255680" y="4642560"/>
                <a:ext cx="115056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66"/>
          <p:cNvSpPr/>
          <p:nvPr/>
        </p:nvSpPr>
        <p:spPr>
          <a:xfrm>
            <a:off x="18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28"/>
          <p:cNvSpPr/>
          <p:nvPr/>
        </p:nvSpPr>
        <p:spPr>
          <a:xfrm>
            <a:off x="2604960" y="2141640"/>
            <a:ext cx="41065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朋友们，你们在乘坐公共汽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程中发现了哪些与数学有关的问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给同学听一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组合 2"/>
          <p:cNvGrpSpPr/>
          <p:nvPr/>
        </p:nvGrpSpPr>
        <p:grpSpPr>
          <a:xfrm>
            <a:off x="0" y="101520"/>
            <a:ext cx="5110200" cy="527040"/>
            <a:chOff x="0" y="101520"/>
            <a:chExt cx="5110200" cy="527040"/>
          </a:xfrm>
        </p:grpSpPr>
        <p:pic>
          <p:nvPicPr>
            <p:cNvPr id="1001" name="圆角矩形 3" descr=""/>
            <p:cNvPicPr/>
            <p:nvPr/>
          </p:nvPicPr>
          <p:blipFill>
            <a:blip r:embed="rId1"/>
            <a:stretch/>
          </p:blipFill>
          <p:spPr>
            <a:xfrm>
              <a:off x="253800" y="101520"/>
              <a:ext cx="48564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2" name="组合 4"/>
            <p:cNvGrpSpPr/>
            <p:nvPr/>
          </p:nvGrpSpPr>
          <p:grpSpPr>
            <a:xfrm>
              <a:off x="0" y="196560"/>
              <a:ext cx="683280" cy="274320"/>
              <a:chOff x="0" y="196560"/>
              <a:chExt cx="683280" cy="274320"/>
            </a:xfrm>
          </p:grpSpPr>
          <p:sp>
            <p:nvSpPr>
              <p:cNvPr id="1003" name="椭圆 18"/>
              <p:cNvSpPr/>
              <p:nvPr/>
            </p:nvSpPr>
            <p:spPr>
              <a:xfrm rot="16200000">
                <a:off x="280440" y="349560"/>
                <a:ext cx="106200" cy="136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443520" y="283320"/>
                <a:ext cx="239760" cy="7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椭圆 29"/>
              <p:cNvSpPr/>
              <p:nvPr/>
            </p:nvSpPr>
            <p:spPr>
              <a:xfrm rot="16200000">
                <a:off x="280440" y="213840"/>
                <a:ext cx="106200" cy="136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443520" y="206280"/>
                <a:ext cx="239760" cy="7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4480"/>
                <a:ext cx="605520" cy="6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75040"/>
                <a:ext cx="605520" cy="6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5640"/>
                <a:ext cx="605520" cy="6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605520" cy="68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73200" y="-1296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一、创设情境，引入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3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5" name="椭圆 18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6" name="椭圆 1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宋体"/>
              </a:rPr>
              <a:t>二、探究新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8"/>
          <p:cNvSpPr/>
          <p:nvPr/>
        </p:nvSpPr>
        <p:spPr>
          <a:xfrm>
            <a:off x="2087640" y="3800520"/>
            <a:ext cx="25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算下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车上有多少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9"/>
          <p:cNvSpPr/>
          <p:nvPr/>
        </p:nvSpPr>
        <p:spPr>
          <a:xfrm>
            <a:off x="3237840" y="4280040"/>
            <a:ext cx="155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算现在有多少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20"/>
          <p:cNvSpPr/>
          <p:nvPr/>
        </p:nvSpPr>
        <p:spPr>
          <a:xfrm>
            <a:off x="5121360" y="3807000"/>
            <a:ext cx="17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21"/>
          <p:cNvSpPr/>
          <p:nvPr/>
        </p:nvSpPr>
        <p:spPr>
          <a:xfrm>
            <a:off x="5121360" y="430704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22"/>
          <p:cNvSpPr/>
          <p:nvPr/>
        </p:nvSpPr>
        <p:spPr>
          <a:xfrm>
            <a:off x="6251400" y="38070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4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（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23"/>
          <p:cNvSpPr/>
          <p:nvPr/>
        </p:nvSpPr>
        <p:spPr>
          <a:xfrm>
            <a:off x="6249960" y="4307040"/>
            <a:ext cx="14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（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33"/>
          <p:cNvSpPr/>
          <p:nvPr/>
        </p:nvSpPr>
        <p:spPr>
          <a:xfrm>
            <a:off x="3133080" y="5086440"/>
            <a:ext cx="124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用综合算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0"/>
          <p:cNvSpPr/>
          <p:nvPr/>
        </p:nvSpPr>
        <p:spPr>
          <a:xfrm>
            <a:off x="4567320" y="51148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0 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25" descr="18"/>
          <p:cNvPicPr/>
          <p:nvPr/>
        </p:nvPicPr>
        <p:blipFill>
          <a:blip r:embed="rId8"/>
          <a:stretch/>
        </p:blipFill>
        <p:spPr>
          <a:xfrm>
            <a:off x="428760" y="1068480"/>
            <a:ext cx="5162400" cy="1711080"/>
          </a:xfrm>
          <a:prstGeom prst="rect">
            <a:avLst/>
          </a:prstGeom>
          <a:ln w="0">
            <a:noFill/>
          </a:ln>
        </p:spPr>
      </p:pic>
      <p:sp>
        <p:nvSpPr>
          <p:cNvPr id="1033" name="AutoShape 29"/>
          <p:cNvSpPr/>
          <p:nvPr/>
        </p:nvSpPr>
        <p:spPr>
          <a:xfrm>
            <a:off x="6372360" y="2306520"/>
            <a:ext cx="2303280" cy="891000"/>
          </a:xfrm>
          <a:prstGeom prst="wedgeRoundRectCallout">
            <a:avLst>
              <a:gd name="adj1" fmla="val 26745"/>
              <a:gd name="adj2" fmla="val 7366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加减混合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utoShape 28"/>
          <p:cNvSpPr/>
          <p:nvPr/>
        </p:nvSpPr>
        <p:spPr>
          <a:xfrm>
            <a:off x="6730920" y="2705040"/>
            <a:ext cx="1944720" cy="496440"/>
          </a:xfrm>
          <a:prstGeom prst="wedgeRoundRectCallout">
            <a:avLst>
              <a:gd name="adj1" fmla="val 22476"/>
              <a:gd name="adj2" fmla="val 9296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式怎么写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30"/>
          <p:cNvSpPr/>
          <p:nvPr/>
        </p:nvSpPr>
        <p:spPr>
          <a:xfrm>
            <a:off x="5796000" y="1992240"/>
            <a:ext cx="2952720" cy="496440"/>
          </a:xfrm>
          <a:prstGeom prst="wedgeRoundRectCallout">
            <a:avLst>
              <a:gd name="adj1" fmla="val 29458"/>
              <a:gd name="adj2" fmla="val 24601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图中告诉我们什么，要解决的问题是什么，再解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38"/>
          <p:cNvSpPr/>
          <p:nvPr/>
        </p:nvSpPr>
        <p:spPr>
          <a:xfrm>
            <a:off x="18720" y="47214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图片 24" descr="2.tif"/>
          <p:cNvPicPr/>
          <p:nvPr/>
        </p:nvPicPr>
        <p:blipFill>
          <a:blip r:embed="rId9"/>
          <a:stretch/>
        </p:blipFill>
        <p:spPr>
          <a:xfrm>
            <a:off x="7715160" y="3568680"/>
            <a:ext cx="1235160" cy="178596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22" descr="1.jpg"/>
          <p:cNvPicPr/>
          <p:nvPr/>
        </p:nvPicPr>
        <p:blipFill>
          <a:blip r:embed="rId10"/>
          <a:stretch/>
        </p:blipFill>
        <p:spPr>
          <a:xfrm>
            <a:off x="142920" y="3854520"/>
            <a:ext cx="1305000" cy="171108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25" descr="3.gif"/>
          <p:cNvPicPr/>
          <p:nvPr/>
        </p:nvPicPr>
        <p:blipFill>
          <a:blip r:embed="rId11"/>
          <a:stretch/>
        </p:blipFill>
        <p:spPr>
          <a:xfrm>
            <a:off x="1428840" y="4568760"/>
            <a:ext cx="1434960" cy="1619280"/>
          </a:xfrm>
          <a:prstGeom prst="rect">
            <a:avLst/>
          </a:prstGeom>
          <a:ln w="0">
            <a:noFill/>
          </a:ln>
        </p:spPr>
      </p:pic>
      <p:sp>
        <p:nvSpPr>
          <p:cNvPr id="1040" name="TextBox 18"/>
          <p:cNvSpPr/>
          <p:nvPr/>
        </p:nvSpPr>
        <p:spPr>
          <a:xfrm>
            <a:off x="1201320" y="2782800"/>
            <a:ext cx="3764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上原来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现在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八边形 7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Text Box 10"/>
          <p:cNvSpPr/>
          <p:nvPr/>
        </p:nvSpPr>
        <p:spPr>
          <a:xfrm>
            <a:off x="826920" y="3505320"/>
            <a:ext cx="3097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6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83"/>
          <p:cNvSpPr/>
          <p:nvPr/>
        </p:nvSpPr>
        <p:spPr>
          <a:xfrm>
            <a:off x="2987640" y="3505320"/>
            <a:ext cx="2149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70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（人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35"/>
          <p:cNvSpPr/>
          <p:nvPr/>
        </p:nvSpPr>
        <p:spPr>
          <a:xfrm>
            <a:off x="4427640" y="4678200"/>
            <a:ext cx="642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8"/>
          <p:cNvSpPr/>
          <p:nvPr/>
        </p:nvSpPr>
        <p:spPr>
          <a:xfrm>
            <a:off x="900000" y="4235400"/>
            <a:ext cx="3456000" cy="152388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35"/>
          <p:cNvSpPr/>
          <p:nvPr/>
        </p:nvSpPr>
        <p:spPr>
          <a:xfrm>
            <a:off x="1417680" y="51418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36"/>
          <p:cNvSpPr/>
          <p:nvPr/>
        </p:nvSpPr>
        <p:spPr>
          <a:xfrm>
            <a:off x="1860480" y="514512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43"/>
          <p:cNvSpPr/>
          <p:nvPr/>
        </p:nvSpPr>
        <p:spPr>
          <a:xfrm>
            <a:off x="3114720" y="4229280"/>
            <a:ext cx="115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  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46"/>
          <p:cNvSpPr/>
          <p:nvPr/>
        </p:nvSpPr>
        <p:spPr>
          <a:xfrm>
            <a:off x="3122640" y="51483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47"/>
          <p:cNvSpPr/>
          <p:nvPr/>
        </p:nvSpPr>
        <p:spPr>
          <a:xfrm>
            <a:off x="3565440" y="513864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Group 69"/>
          <p:cNvGrpSpPr/>
          <p:nvPr/>
        </p:nvGrpSpPr>
        <p:grpSpPr>
          <a:xfrm>
            <a:off x="981000" y="4227480"/>
            <a:ext cx="1662120" cy="1409760"/>
            <a:chOff x="981000" y="4227480"/>
            <a:chExt cx="1662120" cy="1409760"/>
          </a:xfrm>
        </p:grpSpPr>
        <p:sp>
          <p:nvSpPr>
            <p:cNvPr id="1052" name="Text Box 32"/>
            <p:cNvSpPr/>
            <p:nvPr/>
          </p:nvSpPr>
          <p:spPr>
            <a:xfrm>
              <a:off x="1406520" y="422748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   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Text Box 33"/>
            <p:cNvSpPr/>
            <p:nvPr/>
          </p:nvSpPr>
          <p:spPr>
            <a:xfrm>
              <a:off x="981000" y="460044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   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1085760" y="5143320"/>
              <a:ext cx="1214640" cy="360"/>
              <a:chOff x="1085760" y="5143320"/>
              <a:chExt cx="1214640" cy="360"/>
            </a:xfrm>
          </p:grpSpPr>
          <p:sp>
            <p:nvSpPr>
              <p:cNvPr id="1055" name="Line 34"/>
              <p:cNvSpPr/>
              <p:nvPr/>
            </p:nvSpPr>
            <p:spPr>
              <a:xfrm>
                <a:off x="1085760" y="5143320"/>
                <a:ext cx="121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 txBox="1"/>
              <p:nvPr/>
            </p:nvSpPr>
            <p:spPr>
              <a:xfrm>
                <a:off x="1085760" y="5143320"/>
                <a:ext cx="121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7" name="Rectangle 17"/>
            <p:cNvSpPr/>
            <p:nvPr/>
          </p:nvSpPr>
          <p:spPr>
            <a:xfrm>
              <a:off x="1862280" y="528012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17"/>
            <p:cNvSpPr/>
            <p:nvPr/>
          </p:nvSpPr>
          <p:spPr>
            <a:xfrm>
              <a:off x="1415880" y="5280120"/>
              <a:ext cx="35748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AutoShape 8"/>
          <p:cNvSpPr/>
          <p:nvPr/>
        </p:nvSpPr>
        <p:spPr>
          <a:xfrm>
            <a:off x="5164200" y="3786120"/>
            <a:ext cx="1712880" cy="2214720"/>
          </a:xfrm>
          <a:custGeom>
            <a:avLst/>
            <a:gdLst>
              <a:gd name="textAreaLeft" fmla="*/ 49320 w 1712880"/>
              <a:gd name="textAreaRight" fmla="*/ 1663560 w 1712880"/>
              <a:gd name="textAreaTop" fmla="*/ 49320 h 2214720"/>
              <a:gd name="textAreaBottom" fmla="*/ 2165400 h 2214720"/>
            </a:gdLst>
            <a:ahLst/>
            <a:rect l="textAreaLeft" t="textAreaTop" r="textAreaRight" b="textAreaBottom"/>
            <a:pathLst>
              <a:path w="21600" h="27927">
                <a:moveTo>
                  <a:pt x="2137" y="0"/>
                </a:moveTo>
                <a:arcTo wR="2137" hR="2137" stAng="16200000" swAng="-5400000"/>
                <a:lnTo>
                  <a:pt x="0" y="25790"/>
                </a:lnTo>
                <a:arcTo wR="2137" hR="2137" stAng="10800000" swAng="-5400000"/>
                <a:lnTo>
                  <a:pt x="19463" y="27927"/>
                </a:lnTo>
                <a:arcTo wR="2137" hR="2137" stAng="5400000" swAng="-5400000"/>
                <a:lnTo>
                  <a:pt x="21600" y="2137"/>
                </a:lnTo>
                <a:arcTo wR="2137" hR="2137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75"/>
          <p:cNvSpPr/>
          <p:nvPr/>
        </p:nvSpPr>
        <p:spPr>
          <a:xfrm>
            <a:off x="5665680" y="458784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76"/>
          <p:cNvSpPr/>
          <p:nvPr/>
        </p:nvSpPr>
        <p:spPr>
          <a:xfrm>
            <a:off x="6113520" y="458784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81"/>
          <p:cNvSpPr/>
          <p:nvPr/>
        </p:nvSpPr>
        <p:spPr>
          <a:xfrm>
            <a:off x="5676840" y="53704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2"/>
          <p:cNvSpPr/>
          <p:nvPr/>
        </p:nvSpPr>
        <p:spPr>
          <a:xfrm>
            <a:off x="6127920" y="53704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Group 70"/>
          <p:cNvGrpSpPr/>
          <p:nvPr/>
        </p:nvGrpSpPr>
        <p:grpSpPr>
          <a:xfrm>
            <a:off x="2766960" y="4356000"/>
            <a:ext cx="1662120" cy="1281240"/>
            <a:chOff x="2766960" y="4356000"/>
            <a:chExt cx="1662120" cy="1281240"/>
          </a:xfrm>
        </p:grpSpPr>
        <p:sp>
          <p:nvSpPr>
            <p:cNvPr id="1065" name="Text Box 44"/>
            <p:cNvSpPr/>
            <p:nvPr/>
          </p:nvSpPr>
          <p:spPr>
            <a:xfrm>
              <a:off x="2766960" y="459900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   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17"/>
            <p:cNvSpPr/>
            <p:nvPr/>
          </p:nvSpPr>
          <p:spPr>
            <a:xfrm>
              <a:off x="3571920" y="528012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17"/>
            <p:cNvSpPr/>
            <p:nvPr/>
          </p:nvSpPr>
          <p:spPr>
            <a:xfrm>
              <a:off x="3125880" y="528012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2847960" y="5143320"/>
              <a:ext cx="1214280" cy="360"/>
              <a:chOff x="2847960" y="5143320"/>
              <a:chExt cx="1214280" cy="360"/>
            </a:xfrm>
          </p:grpSpPr>
          <p:sp>
            <p:nvSpPr>
              <p:cNvPr id="1069" name="Line 34"/>
              <p:cNvSpPr/>
              <p:nvPr/>
            </p:nvSpPr>
            <p:spPr>
              <a:xfrm>
                <a:off x="2847960" y="5143320"/>
                <a:ext cx="121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 txBox="1"/>
              <p:nvPr/>
            </p:nvSpPr>
            <p:spPr>
              <a:xfrm>
                <a:off x="2847960" y="5143320"/>
                <a:ext cx="1214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1" name="Rectangle 17"/>
            <p:cNvSpPr/>
            <p:nvPr/>
          </p:nvSpPr>
          <p:spPr>
            <a:xfrm>
              <a:off x="3571920" y="435600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7"/>
            <p:cNvSpPr/>
            <p:nvPr/>
          </p:nvSpPr>
          <p:spPr>
            <a:xfrm>
              <a:off x="3125880" y="435600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Group 92"/>
          <p:cNvGrpSpPr/>
          <p:nvPr/>
        </p:nvGrpSpPr>
        <p:grpSpPr>
          <a:xfrm>
            <a:off x="5311800" y="3762360"/>
            <a:ext cx="1711440" cy="2100240"/>
            <a:chOff x="5311800" y="3762360"/>
            <a:chExt cx="1711440" cy="2100240"/>
          </a:xfrm>
        </p:grpSpPr>
        <p:sp>
          <p:nvSpPr>
            <p:cNvPr id="1074" name="Text Box 72"/>
            <p:cNvSpPr/>
            <p:nvPr/>
          </p:nvSpPr>
          <p:spPr>
            <a:xfrm>
              <a:off x="5702400" y="376236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   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73"/>
            <p:cNvSpPr/>
            <p:nvPr/>
          </p:nvSpPr>
          <p:spPr>
            <a:xfrm>
              <a:off x="5361120" y="412128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   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440320" y="4657680"/>
              <a:ext cx="1150920" cy="360"/>
              <a:chOff x="5440320" y="4657680"/>
              <a:chExt cx="1150920" cy="360"/>
            </a:xfrm>
          </p:grpSpPr>
          <p:sp>
            <p:nvSpPr>
              <p:cNvPr id="1077" name="Line 74"/>
              <p:cNvSpPr/>
              <p:nvPr/>
            </p:nvSpPr>
            <p:spPr>
              <a:xfrm>
                <a:off x="5440320" y="4657680"/>
                <a:ext cx="115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 txBox="1"/>
              <p:nvPr/>
            </p:nvSpPr>
            <p:spPr>
              <a:xfrm>
                <a:off x="5440320" y="4657680"/>
                <a:ext cx="115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Text Box 79"/>
            <p:cNvSpPr/>
            <p:nvPr/>
          </p:nvSpPr>
          <p:spPr>
            <a:xfrm>
              <a:off x="5311800" y="4902120"/>
              <a:ext cx="16621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   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5442120" y="5432400"/>
              <a:ext cx="1150920" cy="360"/>
              <a:chOff x="5442120" y="5432400"/>
              <a:chExt cx="1150920" cy="360"/>
            </a:xfrm>
          </p:grpSpPr>
          <p:sp>
            <p:nvSpPr>
              <p:cNvPr id="1081" name="Line 80"/>
              <p:cNvSpPr/>
              <p:nvPr/>
            </p:nvSpPr>
            <p:spPr>
              <a:xfrm>
                <a:off x="5442120" y="5432400"/>
                <a:ext cx="115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 txBox="1"/>
              <p:nvPr/>
            </p:nvSpPr>
            <p:spPr>
              <a:xfrm>
                <a:off x="5442120" y="5432400"/>
                <a:ext cx="115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Rectangle 17"/>
            <p:cNvSpPr/>
            <p:nvPr/>
          </p:nvSpPr>
          <p:spPr>
            <a:xfrm>
              <a:off x="6151680" y="4724280"/>
              <a:ext cx="357120" cy="357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7"/>
            <p:cNvSpPr/>
            <p:nvPr/>
          </p:nvSpPr>
          <p:spPr>
            <a:xfrm>
              <a:off x="5705640" y="4724280"/>
              <a:ext cx="357120" cy="357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7"/>
            <p:cNvSpPr/>
            <p:nvPr/>
          </p:nvSpPr>
          <p:spPr>
            <a:xfrm>
              <a:off x="6151680" y="550548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7"/>
            <p:cNvSpPr/>
            <p:nvPr/>
          </p:nvSpPr>
          <p:spPr>
            <a:xfrm>
              <a:off x="5705640" y="550548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Rectangle 94"/>
          <p:cNvSpPr/>
          <p:nvPr/>
        </p:nvSpPr>
        <p:spPr>
          <a:xfrm>
            <a:off x="18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25" descr="18"/>
          <p:cNvPicPr/>
          <p:nvPr/>
        </p:nvPicPr>
        <p:blipFill>
          <a:blip r:embed="rId1"/>
          <a:stretch/>
        </p:blipFill>
        <p:spPr>
          <a:xfrm>
            <a:off x="428760" y="858960"/>
            <a:ext cx="5162400" cy="1711080"/>
          </a:xfrm>
          <a:prstGeom prst="rect">
            <a:avLst/>
          </a:prstGeom>
          <a:ln w="0">
            <a:noFill/>
          </a:ln>
        </p:spPr>
      </p:pic>
      <p:sp>
        <p:nvSpPr>
          <p:cNvPr id="1089" name="TextBox 46"/>
          <p:cNvSpPr/>
          <p:nvPr/>
        </p:nvSpPr>
        <p:spPr>
          <a:xfrm>
            <a:off x="1201320" y="2573280"/>
            <a:ext cx="3764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上原来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现在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"/>
                            </p:stCondLst>
                            <p:childTnLst>
                              <p:par>
                                <p:cTn id="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"/>
                            </p:stCondLst>
                            <p:childTnLst>
                              <p:par>
                                <p:cTn id="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Text Box 10"/>
          <p:cNvSpPr/>
          <p:nvPr/>
        </p:nvSpPr>
        <p:spPr>
          <a:xfrm>
            <a:off x="1114560" y="1000080"/>
            <a:ext cx="324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6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83"/>
          <p:cNvSpPr/>
          <p:nvPr/>
        </p:nvSpPr>
        <p:spPr>
          <a:xfrm>
            <a:off x="3597120" y="1000080"/>
            <a:ext cx="987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8"/>
          <p:cNvSpPr/>
          <p:nvPr/>
        </p:nvSpPr>
        <p:spPr>
          <a:xfrm>
            <a:off x="900000" y="1730520"/>
            <a:ext cx="3456000" cy="152388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35"/>
          <p:cNvSpPr/>
          <p:nvPr/>
        </p:nvSpPr>
        <p:spPr>
          <a:xfrm>
            <a:off x="1417680" y="263700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36"/>
          <p:cNvSpPr/>
          <p:nvPr/>
        </p:nvSpPr>
        <p:spPr>
          <a:xfrm>
            <a:off x="1860480" y="26398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Group 55"/>
          <p:cNvGrpSpPr/>
          <p:nvPr/>
        </p:nvGrpSpPr>
        <p:grpSpPr>
          <a:xfrm>
            <a:off x="981000" y="1722600"/>
            <a:ext cx="1662120" cy="1409040"/>
            <a:chOff x="981000" y="1722600"/>
            <a:chExt cx="1662120" cy="1409040"/>
          </a:xfrm>
        </p:grpSpPr>
        <p:sp>
          <p:nvSpPr>
            <p:cNvPr id="1096" name="Text Box 32"/>
            <p:cNvSpPr/>
            <p:nvPr/>
          </p:nvSpPr>
          <p:spPr>
            <a:xfrm>
              <a:off x="1406520" y="172260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   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33"/>
            <p:cNvSpPr/>
            <p:nvPr/>
          </p:nvSpPr>
          <p:spPr>
            <a:xfrm>
              <a:off x="981000" y="209520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  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1085760" y="2638080"/>
              <a:ext cx="1214640" cy="360"/>
              <a:chOff x="1085760" y="2638080"/>
              <a:chExt cx="1214640" cy="360"/>
            </a:xfrm>
          </p:grpSpPr>
          <p:sp>
            <p:nvSpPr>
              <p:cNvPr id="1099" name="Line 34"/>
              <p:cNvSpPr/>
              <p:nvPr/>
            </p:nvSpPr>
            <p:spPr>
              <a:xfrm>
                <a:off x="1085760" y="2638080"/>
                <a:ext cx="121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 txBox="1"/>
              <p:nvPr/>
            </p:nvSpPr>
            <p:spPr>
              <a:xfrm>
                <a:off x="1085760" y="2638080"/>
                <a:ext cx="121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Rectangle 17"/>
            <p:cNvSpPr/>
            <p:nvPr/>
          </p:nvSpPr>
          <p:spPr>
            <a:xfrm>
              <a:off x="1862280" y="2774880"/>
              <a:ext cx="357120" cy="35676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7"/>
            <p:cNvSpPr/>
            <p:nvPr/>
          </p:nvSpPr>
          <p:spPr>
            <a:xfrm>
              <a:off x="1415880" y="2774880"/>
              <a:ext cx="357480" cy="35676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17"/>
          <p:cNvSpPr/>
          <p:nvPr/>
        </p:nvSpPr>
        <p:spPr>
          <a:xfrm>
            <a:off x="3125880" y="2774880"/>
            <a:ext cx="357120" cy="3571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Group 72"/>
          <p:cNvGrpSpPr/>
          <p:nvPr/>
        </p:nvGrpSpPr>
        <p:grpSpPr>
          <a:xfrm>
            <a:off x="2649600" y="1724040"/>
            <a:ext cx="1662120" cy="1407600"/>
            <a:chOff x="2649600" y="1724040"/>
            <a:chExt cx="1662120" cy="1407600"/>
          </a:xfrm>
        </p:grpSpPr>
        <p:sp>
          <p:nvSpPr>
            <p:cNvPr id="1105" name="Text Box 44"/>
            <p:cNvSpPr/>
            <p:nvPr/>
          </p:nvSpPr>
          <p:spPr>
            <a:xfrm>
              <a:off x="2649600" y="209376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43"/>
            <p:cNvSpPr/>
            <p:nvPr/>
          </p:nvSpPr>
          <p:spPr>
            <a:xfrm>
              <a:off x="3114720" y="172404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   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7"/>
            <p:cNvSpPr/>
            <p:nvPr/>
          </p:nvSpPr>
          <p:spPr>
            <a:xfrm>
              <a:off x="3571920" y="2774520"/>
              <a:ext cx="357120" cy="3571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2765520" y="2638080"/>
              <a:ext cx="1296720" cy="360"/>
              <a:chOff x="2765520" y="2638080"/>
              <a:chExt cx="1296720" cy="360"/>
            </a:xfrm>
          </p:grpSpPr>
          <p:sp>
            <p:nvSpPr>
              <p:cNvPr id="1109" name="Line 34"/>
              <p:cNvSpPr/>
              <p:nvPr/>
            </p:nvSpPr>
            <p:spPr>
              <a:xfrm>
                <a:off x="2765520" y="2638080"/>
                <a:ext cx="129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 txBox="1"/>
              <p:nvPr/>
            </p:nvSpPr>
            <p:spPr>
              <a:xfrm>
                <a:off x="2765520" y="2638080"/>
                <a:ext cx="129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17"/>
            <p:cNvSpPr/>
            <p:nvPr/>
          </p:nvSpPr>
          <p:spPr>
            <a:xfrm>
              <a:off x="3571920" y="2215800"/>
              <a:ext cx="357120" cy="35676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7"/>
            <p:cNvSpPr/>
            <p:nvPr/>
          </p:nvSpPr>
          <p:spPr>
            <a:xfrm>
              <a:off x="3125880" y="2215800"/>
              <a:ext cx="357120" cy="35676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Text Box 35"/>
          <p:cNvSpPr/>
          <p:nvPr/>
        </p:nvSpPr>
        <p:spPr>
          <a:xfrm>
            <a:off x="3117960" y="20890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36"/>
          <p:cNvSpPr/>
          <p:nvPr/>
        </p:nvSpPr>
        <p:spPr>
          <a:xfrm>
            <a:off x="3571920" y="209232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47"/>
          <p:cNvSpPr/>
          <p:nvPr/>
        </p:nvSpPr>
        <p:spPr>
          <a:xfrm>
            <a:off x="3575160" y="26337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5"/>
          <p:cNvSpPr/>
          <p:nvPr/>
        </p:nvSpPr>
        <p:spPr>
          <a:xfrm>
            <a:off x="4427640" y="45291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相同数位对齐，从个位算起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相加满十要进位</a:t>
            </a:r>
            <a:r>
              <a:rPr b="1" lang="en-US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不够减时要退位</a:t>
            </a:r>
            <a:r>
              <a:rPr b="1" lang="en-US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有时可以用简便写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81"/>
          <p:cNvGrpSpPr/>
          <p:nvPr/>
        </p:nvGrpSpPr>
        <p:grpSpPr>
          <a:xfrm>
            <a:off x="4199040" y="3583080"/>
            <a:ext cx="4487400" cy="2344680"/>
            <a:chOff x="4199040" y="3583080"/>
            <a:chExt cx="4487400" cy="2344680"/>
          </a:xfrm>
        </p:grpSpPr>
        <p:sp>
          <p:nvSpPr>
            <p:cNvPr id="1118" name="Text Box 5"/>
            <p:cNvSpPr/>
            <p:nvPr/>
          </p:nvSpPr>
          <p:spPr>
            <a:xfrm>
              <a:off x="5056200" y="3913200"/>
              <a:ext cx="268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在写竖式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9" name="Group 37"/>
            <p:cNvGrpSpPr/>
            <p:nvPr/>
          </p:nvGrpSpPr>
          <p:grpSpPr>
            <a:xfrm>
              <a:off x="4199040" y="3583080"/>
              <a:ext cx="4487400" cy="2344680"/>
              <a:chOff x="4199040" y="3583080"/>
              <a:chExt cx="4487400" cy="2344680"/>
            </a:xfrm>
          </p:grpSpPr>
          <p:sp>
            <p:nvSpPr>
              <p:cNvPr id="1120" name="AutoShape 38"/>
              <p:cNvSpPr/>
              <p:nvPr/>
            </p:nvSpPr>
            <p:spPr>
              <a:xfrm>
                <a:off x="4199040" y="3684600"/>
                <a:ext cx="4487400" cy="2243160"/>
              </a:xfrm>
              <a:prstGeom prst="roundRect">
                <a:avLst>
                  <a:gd name="adj" fmla="val 4690"/>
                </a:avLst>
              </a:prstGeom>
              <a:noFill/>
              <a:ln w="57240">
                <a:solidFill>
                  <a:srgbClr val="676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AutoShape 39"/>
              <p:cNvSpPr/>
              <p:nvPr/>
            </p:nvSpPr>
            <p:spPr>
              <a:xfrm>
                <a:off x="4620600" y="3583080"/>
                <a:ext cx="3637080" cy="204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03076"/>
                  </a:gs>
                  <a:gs pos="50000">
                    <a:srgbClr val="6767ff"/>
                  </a:gs>
                  <a:gs pos="100000">
                    <a:srgbClr val="303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AutoShape 40"/>
              <p:cNvSpPr/>
              <p:nvPr/>
            </p:nvSpPr>
            <p:spPr>
              <a:xfrm flipH="1">
                <a:off x="7915680" y="3633840"/>
                <a:ext cx="140040" cy="1015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AutoShape 41"/>
              <p:cNvSpPr/>
              <p:nvPr/>
            </p:nvSpPr>
            <p:spPr>
              <a:xfrm flipH="1">
                <a:off x="4821840" y="3633840"/>
                <a:ext cx="139320" cy="1015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4" name="Rectangle 82"/>
          <p:cNvSpPr/>
          <p:nvPr/>
        </p:nvSpPr>
        <p:spPr>
          <a:xfrm>
            <a:off x="18720" y="45957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53"/>
          <p:cNvGrpSpPr/>
          <p:nvPr/>
        </p:nvGrpSpPr>
        <p:grpSpPr>
          <a:xfrm>
            <a:off x="5072040" y="1657440"/>
            <a:ext cx="3516480" cy="1643040"/>
            <a:chOff x="5072040" y="1657440"/>
            <a:chExt cx="3516480" cy="1643040"/>
          </a:xfrm>
        </p:grpSpPr>
        <p:sp>
          <p:nvSpPr>
            <p:cNvPr id="1126" name="AutoShape 30"/>
            <p:cNvSpPr/>
            <p:nvPr/>
          </p:nvSpPr>
          <p:spPr>
            <a:xfrm>
              <a:off x="5072040" y="1657440"/>
              <a:ext cx="2358000" cy="857160"/>
            </a:xfrm>
            <a:prstGeom prst="wedgeRoundRectCallout">
              <a:avLst>
                <a:gd name="adj1" fmla="val 29462"/>
                <a:gd name="adj2" fmla="val 636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48"/>
            <p:cNvSpPr/>
            <p:nvPr/>
          </p:nvSpPr>
          <p:spPr>
            <a:xfrm>
              <a:off x="5512680" y="1657440"/>
              <a:ext cx="140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  <a:ea typeface="楷体_GB2312"/>
                </a:rPr>
                <a:t>有小括号的要先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00000"/>
                  </a:solidFill>
                  <a:latin typeface="楷体_GB2312"/>
                  <a:ea typeface="楷体_GB2312"/>
                </a:rPr>
                <a:t>小括号里面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8" name="图片 24" descr="2.tif"/>
            <p:cNvPicPr/>
            <p:nvPr/>
          </p:nvPicPr>
          <p:blipFill>
            <a:blip r:embed="rId1"/>
            <a:stretch/>
          </p:blipFill>
          <p:spPr>
            <a:xfrm>
              <a:off x="7501680" y="1728720"/>
              <a:ext cx="1086840" cy="15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9" name="八边形 10"/>
          <p:cNvSpPr/>
          <p:nvPr/>
        </p:nvSpPr>
        <p:spPr>
          <a:xfrm>
            <a:off x="566640" y="77004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44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"/>
                            </p:stCondLst>
                            <p:childTnLst>
                              <p:par>
                                <p:cTn id="1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"/>
                            </p:stCondLst>
                            <p:childTnLst>
                              <p:par>
                                <p:cTn id="1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"/>
                            </p:stCondLst>
                            <p:childTnLst>
                              <p:par>
                                <p:cTn id="1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"/>
                            </p:stCondLst>
                            <p:childTnLst>
                              <p:par>
                                <p:cTn id="1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1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33" name="椭圆 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椭圆 4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6" name="椭圆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41" name="Picture 43" descr="20"/>
          <p:cNvPicPr/>
          <p:nvPr/>
        </p:nvPicPr>
        <p:blipFill>
          <a:blip r:embed="rId8"/>
          <a:stretch/>
        </p:blipFill>
        <p:spPr>
          <a:xfrm>
            <a:off x="900000" y="1379520"/>
            <a:ext cx="7469280" cy="25574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三、巩固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8"/>
          <p:cNvSpPr/>
          <p:nvPr/>
        </p:nvSpPr>
        <p:spPr>
          <a:xfrm>
            <a:off x="155412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8"/>
          <p:cNvSpPr/>
          <p:nvPr/>
        </p:nvSpPr>
        <p:spPr>
          <a:xfrm>
            <a:off x="123336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8"/>
          <p:cNvSpPr/>
          <p:nvPr/>
        </p:nvSpPr>
        <p:spPr>
          <a:xfrm>
            <a:off x="155412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8"/>
          <p:cNvSpPr/>
          <p:nvPr/>
        </p:nvSpPr>
        <p:spPr>
          <a:xfrm>
            <a:off x="123192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8"/>
          <p:cNvSpPr/>
          <p:nvPr/>
        </p:nvSpPr>
        <p:spPr>
          <a:xfrm>
            <a:off x="306216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8"/>
          <p:cNvSpPr/>
          <p:nvPr/>
        </p:nvSpPr>
        <p:spPr>
          <a:xfrm>
            <a:off x="274464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8"/>
          <p:cNvSpPr/>
          <p:nvPr/>
        </p:nvSpPr>
        <p:spPr>
          <a:xfrm>
            <a:off x="306072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8"/>
          <p:cNvSpPr/>
          <p:nvPr/>
        </p:nvSpPr>
        <p:spPr>
          <a:xfrm>
            <a:off x="274464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8"/>
          <p:cNvSpPr/>
          <p:nvPr/>
        </p:nvSpPr>
        <p:spPr>
          <a:xfrm>
            <a:off x="465120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8"/>
          <p:cNvSpPr/>
          <p:nvPr/>
        </p:nvSpPr>
        <p:spPr>
          <a:xfrm>
            <a:off x="433224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8"/>
          <p:cNvSpPr/>
          <p:nvPr/>
        </p:nvSpPr>
        <p:spPr>
          <a:xfrm>
            <a:off x="465120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8"/>
          <p:cNvSpPr/>
          <p:nvPr/>
        </p:nvSpPr>
        <p:spPr>
          <a:xfrm>
            <a:off x="433044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8"/>
          <p:cNvSpPr/>
          <p:nvPr/>
        </p:nvSpPr>
        <p:spPr>
          <a:xfrm>
            <a:off x="623088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8"/>
          <p:cNvSpPr/>
          <p:nvPr/>
        </p:nvSpPr>
        <p:spPr>
          <a:xfrm>
            <a:off x="591156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8"/>
          <p:cNvSpPr/>
          <p:nvPr/>
        </p:nvSpPr>
        <p:spPr>
          <a:xfrm>
            <a:off x="623088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8"/>
          <p:cNvSpPr/>
          <p:nvPr/>
        </p:nvSpPr>
        <p:spPr>
          <a:xfrm>
            <a:off x="591156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8"/>
          <p:cNvSpPr/>
          <p:nvPr/>
        </p:nvSpPr>
        <p:spPr>
          <a:xfrm>
            <a:off x="777384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8"/>
          <p:cNvSpPr/>
          <p:nvPr/>
        </p:nvSpPr>
        <p:spPr>
          <a:xfrm>
            <a:off x="7449840" y="23842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8"/>
          <p:cNvSpPr/>
          <p:nvPr/>
        </p:nvSpPr>
        <p:spPr>
          <a:xfrm>
            <a:off x="777240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7448400" y="336708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48"/>
          <p:cNvSpPr/>
          <p:nvPr/>
        </p:nvSpPr>
        <p:spPr>
          <a:xfrm>
            <a:off x="18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6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5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Box 32"/>
          <p:cNvSpPr/>
          <p:nvPr/>
        </p:nvSpPr>
        <p:spPr>
          <a:xfrm>
            <a:off x="349200" y="861840"/>
            <a:ext cx="8448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计算加减混合算式时，要按照从左往右的顺序进行计算，列式时可以写出两个，也可以写成一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在计算含有小括号的加减混合运算的算式时，要先算小括号里面的，再算小括号外面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 txBox="1"/>
          <p:nvPr/>
        </p:nvSpPr>
        <p:spPr>
          <a:xfrm>
            <a:off x="425520" y="132372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算一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7=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3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9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2=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6=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3=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8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2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79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81" name="椭圆 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2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3" name="椭圆 4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4" name="椭圆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9" name="Rectangle 48"/>
          <p:cNvSpPr/>
          <p:nvPr/>
        </p:nvSpPr>
        <p:spPr>
          <a:xfrm>
            <a:off x="27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8"/>
          <p:cNvSpPr/>
          <p:nvPr/>
        </p:nvSpPr>
        <p:spPr>
          <a:xfrm>
            <a:off x="2594880" y="2584440"/>
            <a:ext cx="53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8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8"/>
          <p:cNvSpPr/>
          <p:nvPr/>
        </p:nvSpPr>
        <p:spPr>
          <a:xfrm>
            <a:off x="7148160" y="2571840"/>
            <a:ext cx="53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8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8"/>
          <p:cNvSpPr/>
          <p:nvPr/>
        </p:nvSpPr>
        <p:spPr>
          <a:xfrm>
            <a:off x="2702160" y="3424320"/>
            <a:ext cx="53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9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8"/>
          <p:cNvSpPr/>
          <p:nvPr/>
        </p:nvSpPr>
        <p:spPr>
          <a:xfrm>
            <a:off x="7082280" y="3416400"/>
            <a:ext cx="53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8"/>
          <p:cNvSpPr/>
          <p:nvPr/>
        </p:nvSpPr>
        <p:spPr>
          <a:xfrm>
            <a:off x="2743200" y="4260960"/>
            <a:ext cx="3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8"/>
          <p:cNvSpPr/>
          <p:nvPr/>
        </p:nvSpPr>
        <p:spPr>
          <a:xfrm>
            <a:off x="6998760" y="4276800"/>
            <a:ext cx="53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457200" y="1248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算一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6=                       4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7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7=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4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=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7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8"/>
          <p:cNvSpPr/>
          <p:nvPr/>
        </p:nvSpPr>
        <p:spPr>
          <a:xfrm>
            <a:off x="27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文本框 12"/>
          <p:cNvSpPr/>
          <p:nvPr/>
        </p:nvSpPr>
        <p:spPr>
          <a:xfrm>
            <a:off x="2678040" y="1957320"/>
            <a:ext cx="58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文本框 13"/>
          <p:cNvSpPr/>
          <p:nvPr/>
        </p:nvSpPr>
        <p:spPr>
          <a:xfrm>
            <a:off x="7041240" y="1946160"/>
            <a:ext cx="58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文本框 15"/>
          <p:cNvSpPr/>
          <p:nvPr/>
        </p:nvSpPr>
        <p:spPr>
          <a:xfrm>
            <a:off x="2704320" y="2814480"/>
            <a:ext cx="58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文本框 16"/>
          <p:cNvSpPr/>
          <p:nvPr/>
        </p:nvSpPr>
        <p:spPr>
          <a:xfrm>
            <a:off x="7151760" y="2824200"/>
            <a:ext cx="58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17"/>
          <p:cNvSpPr/>
          <p:nvPr/>
        </p:nvSpPr>
        <p:spPr>
          <a:xfrm>
            <a:off x="2614680" y="3668760"/>
            <a:ext cx="58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文本框 18"/>
          <p:cNvSpPr/>
          <p:nvPr/>
        </p:nvSpPr>
        <p:spPr>
          <a:xfrm>
            <a:off x="7101720" y="3651120"/>
            <a:ext cx="788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0:28:56Z</dcterms:modified>
  <cp:revision>5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